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EB2F-8455-4C47-9EBD-73730DC5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9A2F-86C6-4AB7-8539-B7A80AE1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608E-09BF-42CF-8839-F9C2D0C0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76C8-BB16-442C-BC9D-66B34DF2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8C80-3F14-4557-866F-1050FC7A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491F-9244-4F45-B4D3-A8F55BDB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21DA-AE0F-4AA3-A732-54C81690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AB0F-6914-45D3-9B44-A5B831B6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5D19-182A-481F-9C25-377C818B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FDB7-6F3C-406B-AC96-D8E0D435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7DB5-C59D-4B5F-85B5-F729A9B9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915-FAC8-4C5B-9CDC-977CF0C1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1BAD-515E-4F98-92E6-95057B20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3904-0341-4F0C-AD1C-E57E3EFC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9513-9743-4166-875F-80927155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34A0-D834-44B6-9994-4B0AE746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F597-FBF5-4F62-8B3F-FE0F5353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17B8-878F-4D32-BBFE-59C325DD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7F7B-1787-4770-9091-B48DEF73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5391-E16D-4291-A342-320A2943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B98E-5641-4FB6-B0BD-11EC2BC5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EA15-FEE1-47DF-948B-0519459E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5FE2-7FC8-4921-9FA1-D452BFFB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652F-B3BD-41F0-85C5-B586198F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EA18-E0F4-448E-B0F4-A4382A56238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8452-7DBC-40DA-8D51-7AB9D6ABE0C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0/310/1420310/f_5710274.jpg" TargetMode="External"/><Relationship Id="rId2" Type="http://schemas.openxmlformats.org/officeDocument/2006/relationships/hyperlink" Target="http://www.demoscope.ru/weekly/2002/085/img/litta.jpg" TargetMode="External"/><Relationship Id="rId3" Type="http://schemas.openxmlformats.org/officeDocument/2006/relationships/hyperlink" Target="http://cravingideas.blogs.com/photos/uncategorized/mona_lisa_1.jpg" TargetMode="External"/><Relationship Id="rId4" Type="http://schemas.openxmlformats.org/officeDocument/2006/relationships/hyperlink" Target="http://www.abc-people.com/data/leonardov/vecherya1.jpg" TargetMode="External"/><Relationship Id="rId5" Type="http://schemas.openxmlformats.org/officeDocument/2006/relationships/hyperlink" Target="http://waking-up.org/wp-content/uploads/2011/06/Michelangelo_portrait.jpg" TargetMode="External"/><Relationship Id="rId6" Type="http://schemas.openxmlformats.org/officeDocument/2006/relationships/hyperlink" Target="http://3-21vzlet.ru/wp-content/uploads/2011/08/david.jpg" TargetMode="External"/><Relationship Id="rId7" Type="http://schemas.openxmlformats.org/officeDocument/2006/relationships/hyperlink" Target="http://www.centre.smr.ru/images/pics/pic0116/pic0116_1024.jpg" TargetMode="External"/><Relationship Id="rId8" Type="http://schemas.openxmlformats.org/officeDocument/2006/relationships/hyperlink" Target="http://www.histoiredelart.net/artistes/XVI/tableaux_raphael/Raphael-Autoportrait-1506.jpg" TargetMode="External"/><Relationship Id="rId9" Type="http://schemas.openxmlformats.org/officeDocument/2006/relationships/hyperlink" Target="http://www.legacyofthecauldron.com/Raphael_ConestabileSQ.jpg" TargetMode="External"/><Relationship Id="rId10" Type="http://schemas.openxmlformats.org/officeDocument/2006/relationships/hyperlink" Target="http://img0.liveinternet.ru/images/attach/c/3/83/293/83293330_Rafael_017__Sikstinskaya_madonna.jpg" TargetMode="External"/><Relationship Id="rId11" Type="http://schemas.openxmlformats.org/officeDocument/2006/relationships/hyperlink" Target="http://www.usc.edu/schools/annenberg/asc/projects/comm544/library/images/008.jpg" TargetMode="External"/><Relationship Id="rId12" Type="http://schemas.openxmlformats.org/officeDocument/2006/relationships/hyperlink" Target="http://www.ibiblio.org/wm/paint/auth/bruegel/dance.jpg" TargetMode="External"/><Relationship Id="rId13" Type="http://schemas.openxmlformats.org/officeDocument/2006/relationships/hyperlink" Target="http://de.academic.ru/pictures/dewiki/80/Pieter_Bruegel_the_Elder-_The_Corn_Harvest_(August).JPG" TargetMode="External"/><Relationship Id="rId14" Type="http://schemas.openxmlformats.org/officeDocument/2006/relationships/hyperlink" Target="http://www.math.nus.edu.sg/~matmcinn/picture/Brueghel_the_elder_-_Hunters_in_the_snow.jpg" TargetMode="External"/><Relationship Id="rId15" Type="http://schemas.openxmlformats.org/officeDocument/2006/relationships/hyperlink" Target="http://img-fotki.yandex.ru/get/4711/53496785.93/0_78eee_36d30baa_XL" TargetMode="External"/><Relationship Id="rId16" Type="http://schemas.openxmlformats.org/officeDocument/2006/relationships/hyperlink" Target="http://www.artholland.ru/art/r/rembrand/img/94.jpg" TargetMode="External"/><Relationship Id="rId17" Type="http://schemas.openxmlformats.org/officeDocument/2006/relationships/hyperlink" Target="http://blog.artnn.ru/images_2006/vozvraschenie_bludnogo_syna_rembrandt_1669.jpg" TargetMode="External"/><Relationship Id="rId18" Type="http://schemas.openxmlformats.org/officeDocument/2006/relationships/hyperlink" Target="http://www.bibliotekar.ru/Kdurer/index.files/image001.jpg" TargetMode="External"/><Relationship Id="rId19" Type="http://schemas.openxmlformats.org/officeDocument/2006/relationships/hyperlink" Target="http://www.zavtra.ru/cgi/veil/data/zavtra/11/906/81.jpg" TargetMode="External"/><Relationship Id="rId20" Type="http://schemas.openxmlformats.org/officeDocument/2006/relationships/hyperlink" Target="http://www.lib.unc.edu/coursepages/reli/images/Durer_Erasmus.jpg" TargetMode="External"/><Relationship Id="rId21" Type="http://schemas.openxmlformats.org/officeDocument/2006/relationships/hyperlink" Target="http://s05.radikal.ru/i178/0908/02/4c6013b5b4b3.jpg" TargetMode="External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1600" y="457200"/>
            <a:ext cx="72388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Book Antiqua"/>
              </a:rPr>
              <a:t>Мир художественной культуры                                   Эпохи Возрождения</a:t>
            </a:r>
            <a:r>
              <a:rPr b="1" lang="en-US" sz="6000" spc="-1" strike="noStrike">
                <a:solidFill>
                  <a:srgbClr val="336666"/>
                </a:solidFill>
                <a:latin typeface="Book Antiqua"/>
              </a:rPr>
              <a:t> </a:t>
            </a:r>
            <a:endParaRPr b="0" lang="en-US" sz="6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80" y="4495680"/>
            <a:ext cx="2448000" cy="1836720"/>
          </a:xfrm>
          <a:prstGeom prst="rect">
            <a:avLst/>
          </a:prstGeom>
          <a:ln w="9360">
            <a:solidFill>
              <a:srgbClr val="3366cc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438280" y="3809880"/>
            <a:ext cx="6507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Учитель истории и обществознания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анюшин Михаил Евгеньевич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МБОУ Ичалковская СОШ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Перевозский район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Нижегородская область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Рафаэль Санти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(1483-1520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3889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685800"/>
            <a:ext cx="5437080" cy="5486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280" y="205740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адонна  Конестабиле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768840" y="228600"/>
            <a:ext cx="5062320" cy="6400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2133720"/>
            <a:ext cx="320040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икстинская мадонн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Картинная галерея, Дрезден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итер Брейгель Старший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          (1525/1530-156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32280" y="1523880"/>
            <a:ext cx="4003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47920" y="1592280"/>
            <a:ext cx="7238880" cy="505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Крестьянский танец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истории искусства, Ве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7172280" cy="4924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Жатв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Метрополитен, Нью-Йорк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7219800" cy="5069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Охотники на снегу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истории искусства, Ве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Рембрандт Харменс ван Рейн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          (1606-166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24360" y="1523880"/>
            <a:ext cx="4147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4921200" cy="628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205740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ортрет старика в красном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5127840" cy="6315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213372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Возвращение блудного сын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Леонардо да Винчи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452-151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754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Альбрехт Дюрер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471-1528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11560" y="1219320"/>
            <a:ext cx="39290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46112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280" y="2133720"/>
            <a:ext cx="39625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Четыре апокалиптических всадник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равюра из серии «Апокалипсис»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091040" y="304920"/>
            <a:ext cx="4825800" cy="6248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2280" y="2209680"/>
            <a:ext cx="3962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Эразм Роттердамский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равюра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Ганс Гольбейн Младший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(1497-1543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79640" y="1143000"/>
            <a:ext cx="4005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46680" y="304920"/>
            <a:ext cx="5005080" cy="6248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205740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Портрет Уильяма Уорхэм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Лувр, Париж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889520" cy="6410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600" y="2209680"/>
            <a:ext cx="342900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Портрет члена семьи Ведигов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Музей Метрополитен,   Нью-Йорк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Диего Веласкес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599-1660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4329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35240" y="304920"/>
            <a:ext cx="5819760" cy="6248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2280" y="2362320"/>
            <a:ext cx="289584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Завтрак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47920" y="1654200"/>
            <a:ext cx="7543800" cy="4903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ряхи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Прадо, Мадрид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68580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1. Рембрандт и Рафаэль были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путешественниками, открывшими новые земли                                                                         2) художниками эпохи Возрождения                  3) учёными и философами                                   4) драматургам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3809880"/>
            <a:ext cx="7543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2. Создатель статуи «Давид»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) Леонардо да Винчи                                                2) Микеланджело Буонарроти                                 3) Альбрехт Дюрер                                                    4) Томас Мор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0574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48006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4940280" cy="6350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2133720"/>
            <a:ext cx="36576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адонна Литта  (Мадонна с младенцем)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47920" y="68580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3. Картину «Возвращение блудного сына» написал художник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) Леонардо да Винчи                                                                         2) Альбрехт Дюрер                                                 3) Рафаэль Санти                                                    4) Рембрандт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3657600"/>
            <a:ext cx="7543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4. Изображение сюжетов из жизни простых крестьян и горожан характеризует искусств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тальянского Возрождения                                                2) Северного Возрождения                                    3) готическое                                                             4) антично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743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5029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685800"/>
            <a:ext cx="7696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5. Ранее всего эпоха Возрождения началась в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талии                                                                         2) Испании                                                                   3) Германии                                                                 4) Голланди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3200400"/>
            <a:ext cx="7543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6. Отличительной чертой искусства эпохи Возрождения был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спользование цветомузыки                                                2) использование библейских сюжетов                                    3) использование достижений античной культуры                                                                   4) отсутствие портретного сходства в изображении людей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29528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876920"/>
            <a:ext cx="990720" cy="304560"/>
          </a:xfrm>
          <a:custGeom>
            <a:avLst/>
            <a:gdLst>
              <a:gd name="textAreaLeft" fmla="*/ 154800 w 990720"/>
              <a:gd name="textAreaRight" fmla="*/ 866880 w 9907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1522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В1. Установите соответствие между автором и произведением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397160"/>
          <a:ext cx="8077320" cy="345600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едение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Леонардо да Винчи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«Портрет старика в красном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Питер Брейгель Старший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«Четыре всадника Апокалипсиса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Альбрехт Дюрер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«Тайная вечеря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«Крестьянский танец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209680" y="5257800"/>
          <a:ext cx="6096240" cy="1270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520" y="5334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Ответ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162920" y="594360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124080" y="5943600"/>
            <a:ext cx="2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105520" y="594360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523880" y="533520"/>
            <a:ext cx="716292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Литератур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Юдовская А.Я., Баранов П.А., Ванюшкина Л.М. Новая история, 1500-1800, 7 класс. М.: «Просвещение», 2009г.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Соловьёв К.А. Универсальные поурочные разработки по Новой истории, 1500-1800гг., 7 класс. М.: «Вако», 2009г.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Волкова К.В. Контрольно-измерительные материалы. История Нового времени: 7 класс. М.: «Вако», 2011г.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3520" y="152280"/>
            <a:ext cx="8381880" cy="68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Интернет ресурсы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"/>
              </a:rPr>
              <a:t>http://img1.liveinternet.ru/images/foto/b/0/310/1420310/f_571027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"/>
              </a:rPr>
              <a:t>http://www.demoscope.ru/weekly/2002/085/img/litta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Мадонна Литт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3"/>
              </a:rPr>
              <a:t>http://cravingideas.blogs.com/photos/uncategorized/mona_lisa_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Мона Лиз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4"/>
              </a:rPr>
              <a:t>http://www.abc-people.com/data/leonardov/vecherya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Тайная вечеря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5"/>
              </a:rPr>
              <a:t>http://waking-up.org/wp-content/uploads/2011/06/Michelangelo_portrait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6"/>
              </a:rPr>
              <a:t>http://3-21vzlet.ru/wp-content/uploads/2011/08/david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 - Давид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7"/>
              </a:rPr>
              <a:t>http://www.centre.smr.ru/images/pics/pic0116/pic0116_102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 - Сотворение Адам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8"/>
              </a:rPr>
              <a:t>http://www.histoiredelart.net/artistes/XVI/tableaux_raphael/Raphael-Autoportrait-1506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9"/>
              </a:rPr>
              <a:t>http://www.legacyofthecauldron.com/Raphael_ConestabileSQ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Мадонна Конестабиле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0"/>
              </a:rPr>
              <a:t>http://img0.liveinternet.ru/images/attach/c/3/83/293/83293330_Rafael_017__Sikstinskaya_madonna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Сикстинская мадонн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 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1"/>
              </a:rPr>
              <a:t>http://www.usc.edu/schools/annenberg/asc/projects/comm544/library/images/008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2"/>
              </a:rPr>
              <a:t>http://www.ibiblio.org/wm/paint/auth/bruegel/dance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 – Крестьянский танец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3"/>
              </a:rPr>
              <a:t>http://de.academic.ru/pictures/dewiki/80/Pieter_Bruegel_the_Elder-_The_Corn_Harvest_(August)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– Питер Брейгель Старший – Жатв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4"/>
              </a:rPr>
              <a:t>http://www.math.nus.edu.sg/~matmcinn/picture/Brueghel_the_elder_-_Hunters_in_the_snow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 – Охотники на снегу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5"/>
              </a:rPr>
              <a:t>http://img-fotki.yandex.ru/get/4711/53496785.93/0_78eee_36d30baa_XL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6"/>
              </a:rPr>
              <a:t>http://www.artholland.ru/art/r/rembrand/img/9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 - Портрет старика в красном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7"/>
              </a:rPr>
              <a:t>http://blog.artnn.ru/images_2006/vozvraschenie_bludnogo_syna_rembrandt_1669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 - Возвращение блудного сын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8"/>
              </a:rPr>
              <a:t>http://www.bibliotekar.ru/Kdurer/index.files/image00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9"/>
              </a:rPr>
              <a:t>http://www.zavtra.ru/cgi/veil/data/zavtra/11/906/8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Четыре апокалиптических всадник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0"/>
              </a:rPr>
              <a:t>http://www.lib.unc.edu/coursepages/reli/images/Durer_Erasmus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Эразм Роттердамск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1"/>
              </a:rPr>
              <a:t>http://s05.radikal.ru/i178/0908/02/4c6013b5b4b3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Ганс Гольбейн Младш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img0.liveinternet.ru/images/attach/c/1/53/851/53851773_3warham.jpg - Ганс Гольбейн Младший – Портрет Уильяма Уорхэм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wga.hu/art/h/holbein/hans_y/1535/1wedigh.jpg - Ганс Гольбейн - Портрет члена семьи Ведигов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img0.liveinternet.ru/images/attach/c/4/79/902/79902068_SelfPortrait_1643.jpg - Диего Веласкес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art-pics.ru/pics/1636/%C4%E8%E5%E3%EE%20%C2%E5%EB%E0%F1%EA%E5%F1-%C7%E0%E2%F2%F0%E0%EA.jpg – Диего Веласкес – Завтрак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varvar.ru/arhiv/gallery/baroque/velazquez/images/velazquez20.jpg - Диего Веласкес - Пряхи.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4865400" cy="6352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2209680"/>
            <a:ext cx="3657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она Лиза  (Джоконда)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Лувр, Париж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704960"/>
            <a:ext cx="8686800" cy="4722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Тайная вечеря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Санта-Мария делле Грацие, Милан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80880"/>
            <a:ext cx="746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икеланджело Буонарроти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        (1475-1564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894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6524640" cy="541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2362320"/>
            <a:ext cx="22860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Давид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Академия, Флоренция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763120" cy="4141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3880" y="152280"/>
            <a:ext cx="716292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отворение Адам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Фрагмент росписи свода Сикстинской капеллы, Ватикан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52480" y="380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тихотворение из Цикла сонетов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057400"/>
            <a:ext cx="79246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Кто создал всё, кто сотворил и части –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И после выбрал лучшую из них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Чтоб здесь явить нам чудо дел своих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Достойное его высокой власти…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10-26T08:58:2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